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866B-B8C5-41B2-949A-D8548DA1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966-9F8E-458A-AB05-C53791EC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D673-25B5-41DB-B0A3-590203E3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B671-07C0-40D1-865B-1C19113E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9714-6700-4B6E-9EDD-0E5FECA9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87A4-A247-4226-A2E4-CD2AD7FD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2006-9FE6-418A-8839-CC39ED4A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DEA0-0823-4915-ADA2-311D3F63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940E-3D30-4966-8911-0950AD28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510-E5BC-4AC1-8656-5BB7C55F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3B1D-1415-4492-8943-EC50B9C8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24FE-FED7-4A14-AAF1-53D5E3E6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4911-8220-42A2-9800-DFE259BB1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66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Forte"/>
              </a:rPr>
              <a:t>La Rutina  de Pep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9360">
            <a:solidFill>
              <a:srgbClr val="ff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ff"/>
                </a:solidFill>
                <a:latin typeface="Forte"/>
              </a:rPr>
              <a:t>Pepe se despierta a las ocho y media pero el no se levanta enseguid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4038480" cy="2381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648320" y="1447920"/>
            <a:ext cx="403848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Forte"/>
              </a:rPr>
              <a:t>Pepe se acuesta muy tard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99"/>
                </a:solidFill>
                <a:latin typeface="Forte"/>
              </a:rPr>
              <a:t>Pepe no se levanta enseguida porque el se acuesta muy tar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64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Forte"/>
              </a:rPr>
              <a:t>Cuando Pepe se Levant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Forte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Forte"/>
              </a:rPr>
              <a:t>Cuando Pepe se levanta el toma una ducha y se lava el pelo con un champ</a:t>
            </a:r>
            <a:r>
              <a:rPr b="0" lang="en-US" sz="3200" spc="-1" strike="noStrike">
                <a:solidFill>
                  <a:srgbClr val="66ff33"/>
                </a:solidFill>
                <a:latin typeface="Forte"/>
                <a:ea typeface="Arial"/>
              </a:rPr>
              <a:t>ú oloroso. Pepe no se bañ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" y="1219320"/>
            <a:ext cx="81532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Forte"/>
              </a:rPr>
              <a:t>No se Maquill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Forte"/>
              </a:rPr>
              <a:t>Pepe no se maquilla porque Pepe no es una muchacha, y Pepe no </a:t>
            </a:r>
            <a:r>
              <a:rPr b="0" lang="es-ES" sz="3200" spc="-1" strike="noStrike">
                <a:solidFill>
                  <a:srgbClr val="0099ff"/>
                </a:solidFill>
                <a:latin typeface="Forte"/>
              </a:rPr>
              <a:t>necesita maquillaje. Pepe no se afeita con la navaja ho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419720" y="1143000"/>
            <a:ext cx="4724280" cy="2652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962520" y="3886200"/>
            <a:ext cx="51814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Forte"/>
              </a:rPr>
              <a:t>Se pone la ropa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66ff33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Forte"/>
              </a:rPr>
              <a:t>Después el  se pone la ropa, Pepe se mira en el espejo cuando se pone la rop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Forte"/>
              </a:rPr>
              <a:t>y se cepilla los d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4114800" cy="1971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114800" y="3505320"/>
            <a:ext cx="430524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orte"/>
              </a:rPr>
              <a:t>Se peina el pelo.</a:t>
            </a: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Forte"/>
              </a:rPr>
              <a:t>Pepe se peina el pelo. Pepe se mira en el espejo cuando se pei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3014640" cy="3047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384840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ff"/>
                </a:solidFill>
                <a:latin typeface="Forte"/>
              </a:rPr>
              <a:t>Pepe toma el desayun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9933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Forte"/>
              </a:rPr>
              <a:t>Pepe se sienta a la mesa. Pepe toma el desayuno. El come el pan tostado y el cereal. Pepe se desayun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04920" y="3807000"/>
            <a:ext cx="3809880" cy="2584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114800" y="3581280"/>
            <a:ext cx="45720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4:39:12Z</dcterms:created>
  <dc:creator>leaolum</dc:creator>
  <dc:description/>
  <dc:language>en-US</dc:language>
  <cp:lastModifiedBy>leaolum</cp:lastModifiedBy>
  <dcterms:modified xsi:type="dcterms:W3CDTF">2012-04-05T13:06:13Z</dcterms:modified>
  <cp:revision>4</cp:revision>
  <dc:subject/>
  <dc:title>La Rutina  de Pepe!</dc:title>
</cp:coreProperties>
</file>